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8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FD0-5DD5-41C3-9A77-CAB60519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708-83FD-46BE-A848-4BC9717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DA3-B5BB-4497-BEA2-92B89B1D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FAC-5142-4DE6-9524-5F96D330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5471-2B30-44E4-8B8A-AE1268CA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FE27-466B-4CCF-BD53-2F1EAABA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6C48-C731-4219-9888-4B7B8B32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94CF-3DC6-48C1-B8F1-9B88604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AF36-8592-422A-96C2-8D825304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BF4F-A494-4450-840D-3940B7F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C291-AB12-49B3-9EBA-C68EA3B8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D96-224B-4C88-A383-6009D56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23AA-63BB-420E-AE56-8E95A789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CEC3-76DA-46C3-B9B2-38A4FB64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DC29-3986-42B1-AE9B-50EA8302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B641-0FBD-4553-A079-7941C690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D911-93E9-4F2B-A208-34318C2B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456A-69CF-4963-BF8C-1D29828B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F0368-327A-45E5-A96C-218FFF7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2405-5E82-4443-9C2A-37CDECE4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1F05-CD0A-4CD4-8410-5A6124D1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EC57-CB68-4B87-A7FC-FE3F2CDF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12C-1EB1-4EBF-9BC0-55DF274D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B4B3-16EC-4278-9F52-E11DBE5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BE45-1FE4-4F2E-9A05-CDEE7E1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1DE34-32DA-41F9-AA41-C1B3DDD0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9243-2647-4B8F-8671-BBB93E1D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A867-ADA7-4003-A0AF-EB804992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2C95-68A0-4BCA-924E-50550FBD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6F42-C802-4E87-9609-05D01F3F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5B201-83D4-4527-B089-327370D0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A799-DB92-4B9D-BBF0-A38DC4D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DE1B-7A41-4DB8-B9E9-5CC0658A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BD3-0C5B-4995-901F-4E23BD18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C289-CE4C-413B-8F1C-83C57A12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FBF1-666B-470F-ACA6-E7EACA96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536F-F6C4-4B5C-9C2B-7174D036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8F4F3-75CA-4FE4-940D-4E274B4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AFAA-1FE9-4487-9F8A-45AB01A7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A1F0-8CE1-4E13-90A0-62E8656F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F64ED-F0B2-48B9-8287-ABCAFEC0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E3050-34AA-47D0-8BF6-0BB5B549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C12B-2C49-43D7-BACE-10B54426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C9E8-CD35-42CF-99E1-E9E33001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A5E-107D-4A09-93A3-38F7888E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669E0-8903-4B6F-90F4-20A6D7CC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B2A2-E51C-43C0-88AB-CD107810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DCA83-3709-4D03-9936-99987F9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D8DE5-DBE5-4934-824C-548B6152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65B89-3290-4576-A2C0-1F3B7303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742D9-AAD3-4A25-9B8A-77E91BB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06763-1899-4FDA-B3C2-1C8E2F69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04668-4F9B-487C-850A-5A5F754A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0C22-4322-4B36-A833-AD8D7EEE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5D0E-5C04-40EF-9655-9577C100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FDB-9111-4063-B943-D03DED2F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EEEB2-F894-447E-BF2F-C98DDF3F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97E12-0362-4F88-8410-223EE68E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F4E6B-0AAE-40A2-B1D4-4FA215B4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CA39-C1F7-4182-AD71-BE72A46A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8EC74-FD68-434B-9FAC-3A31D471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A309F-E91A-4A39-84C4-BBE5953B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3FD11-7A3A-44B7-B41E-802C413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E1313-5FE9-43FF-B3BE-D784A3B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DE2BC-F6E6-4791-8AED-955621FC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800A5-02D3-4DD5-A554-7589F46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CCE-BE2C-4374-9CB2-C0559E9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5F8E-F88D-4C29-A276-B70CF27F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0B59D-8C56-4503-9FB3-12092290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09442-EE8E-481E-8D34-4FCCA1E6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66ACF-366F-42D2-B58F-A05B124E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F621-C44C-4640-87BC-FB3873D3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F67D-0227-4B1A-9F6C-3C921BF9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EF4F3-E4CE-4ECF-AF04-138512DC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07869-95B3-4508-BF2C-A033A21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3019-A42E-4181-B044-65A5D730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D2E60-8FF2-4BE5-9C63-EAF9EF43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E95-4A97-4531-AAA3-6B66619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68A8-7394-483D-ABF7-AC4A7E31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CE69-09A9-47B5-9AFB-B4B58DD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3825A-51DE-4853-8930-FA4C53E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DEFE6-6C8D-4253-B190-E9B115DA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139D5-31CF-4AD1-B9B4-9144BEA0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231-013A-4BC8-B009-B15EAE7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9530-A5D0-420A-B87E-DB6AD5F830D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FA35-6F18-432C-B30F-256E82F9F8E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62A2-917D-4B35-B3B3-16B4DF5901F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5D2D-C693-414F-8FEF-CE23B70DF08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C2FD-B594-47F7-A58C-5F9E7ADDA0A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9FE4-03A6-4C94-A70E-BB3DC8C4341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91C1-5714-48E0-9B99-88A553E8E3F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Oval 3"/>
          <p:cNvSpPr/>
          <p:nvPr/>
        </p:nvSpPr>
        <p:spPr>
          <a:xfrm>
            <a:off x="2819520" y="1600200"/>
            <a:ext cx="3429000" cy="2209680"/>
          </a:xfrm>
          <a:prstGeom prst="ellipse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Natural Components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loud Callout 4"/>
          <p:cNvSpPr/>
          <p:nvPr/>
        </p:nvSpPr>
        <p:spPr>
          <a:xfrm>
            <a:off x="457200" y="3733920"/>
            <a:ext cx="2743200" cy="2060280"/>
          </a:xfrm>
          <a:prstGeom prst="cloudCallout">
            <a:avLst>
              <a:gd name="adj1" fmla="val 40874"/>
              <a:gd name="adj2" fmla="val -7092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loud Callout 5"/>
          <p:cNvSpPr/>
          <p:nvPr/>
        </p:nvSpPr>
        <p:spPr>
          <a:xfrm>
            <a:off x="2971800" y="4343400"/>
            <a:ext cx="3429000" cy="1828800"/>
          </a:xfrm>
          <a:prstGeom prst="cloudCallout">
            <a:avLst>
              <a:gd name="adj1" fmla="val -1407"/>
              <a:gd name="adj2" fmla="val -7673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loud Callout 6"/>
          <p:cNvSpPr/>
          <p:nvPr/>
        </p:nvSpPr>
        <p:spPr>
          <a:xfrm>
            <a:off x="6400800" y="3200400"/>
            <a:ext cx="2743200" cy="1676520"/>
          </a:xfrm>
          <a:prstGeom prst="cloudCallout">
            <a:avLst>
              <a:gd name="adj1" fmla="val -56509"/>
              <a:gd name="adj2" fmla="val -5171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Oval 3"/>
          <p:cNvSpPr/>
          <p:nvPr/>
        </p:nvSpPr>
        <p:spPr>
          <a:xfrm>
            <a:off x="228600" y="3048120"/>
            <a:ext cx="3733920" cy="1904760"/>
          </a:xfrm>
          <a:prstGeom prst="ellipse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cial &amp; Psychological Components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iley Face 4"/>
          <p:cNvSpPr/>
          <p:nvPr/>
        </p:nvSpPr>
        <p:spPr>
          <a:xfrm>
            <a:off x="5105520" y="1905120"/>
            <a:ext cx="3733560" cy="1752480"/>
          </a:xfrm>
          <a:prstGeom prst="smileyFace">
            <a:avLst>
              <a:gd name="adj" fmla="val 928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National Self-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iley Face 5"/>
          <p:cNvSpPr/>
          <p:nvPr/>
        </p:nvSpPr>
        <p:spPr>
          <a:xfrm>
            <a:off x="3962520" y="4267080"/>
            <a:ext cx="4647960" cy="2286000"/>
          </a:xfrm>
          <a:prstGeom prst="smileyFace">
            <a:avLst>
              <a:gd name="adj" fmla="val 928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Public Support &amp;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Bent Arrow 6"/>
          <p:cNvSpPr/>
          <p:nvPr/>
        </p:nvSpPr>
        <p:spPr>
          <a:xfrm>
            <a:off x="2590920" y="2438280"/>
            <a:ext cx="2438280" cy="609840"/>
          </a:xfrm>
          <a:custGeom>
            <a:avLst/>
            <a:gdLst/>
            <a:ahLst/>
            <a:rect l="l" t="t" r="r" b="b"/>
            <a:pathLst>
              <a:path w="2438400" h="609600">
                <a:moveTo>
                  <a:pt x="0" y="609600"/>
                </a:moveTo>
                <a:lnTo>
                  <a:pt x="0" y="324143"/>
                </a:lnTo>
                <a:lnTo>
                  <a:pt x="0" y="324143"/>
                </a:lnTo>
                <a:arcTo wR="266700" hR="266700" stAng="10800000" swAng="5400000"/>
                <a:lnTo>
                  <a:pt x="2286000" y="57443"/>
                </a:lnTo>
                <a:lnTo>
                  <a:pt x="2286000" y="0"/>
                </a:lnTo>
                <a:lnTo>
                  <a:pt x="2438400" y="152400"/>
                </a:lnTo>
                <a:lnTo>
                  <a:pt x="2286000" y="304800"/>
                </a:lnTo>
                <a:lnTo>
                  <a:pt x="2286000" y="247357"/>
                </a:lnTo>
                <a:lnTo>
                  <a:pt x="266700" y="247357"/>
                </a:lnTo>
                <a:lnTo>
                  <a:pt x="266700" y="247357"/>
                </a:lnTo>
                <a:arcTo wR="76785" hR="76785" stAng="-5400000" swAng="-5400000"/>
                <a:lnTo>
                  <a:pt x="189915" y="6096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otched Right Arrow 9"/>
          <p:cNvSpPr/>
          <p:nvPr/>
        </p:nvSpPr>
        <p:spPr>
          <a:xfrm>
            <a:off x="2133720" y="4648320"/>
            <a:ext cx="2209680" cy="533160"/>
          </a:xfrm>
          <a:custGeom>
            <a:avLst/>
            <a:gdLst>
              <a:gd name="textAreaLeft" fmla="*/ 133200 w 2209680"/>
              <a:gd name="textAreaRight" fmla="*/ 2076480 w 22096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93" y="5400"/>
                </a:lnTo>
                <a:lnTo>
                  <a:pt x="18993" y="0"/>
                </a:lnTo>
                <a:lnTo>
                  <a:pt x="21600" y="10800"/>
                </a:lnTo>
                <a:lnTo>
                  <a:pt x="18993" y="21600"/>
                </a:lnTo>
                <a:lnTo>
                  <a:pt x="18993" y="16200"/>
                </a:lnTo>
                <a:lnTo>
                  <a:pt x="0" y="16200"/>
                </a:lnTo>
                <a:lnTo>
                  <a:pt x="130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Left-Right Arrow Callout 3"/>
          <p:cNvSpPr/>
          <p:nvPr/>
        </p:nvSpPr>
        <p:spPr>
          <a:xfrm>
            <a:off x="2057400" y="2743200"/>
            <a:ext cx="4572000" cy="3200400"/>
          </a:xfrm>
          <a:custGeom>
            <a:avLst/>
            <a:gdLst>
              <a:gd name="textAreaLeft" fmla="*/ 1185840 w 4572000"/>
              <a:gd name="textAreaRight" fmla="*/ 3386160 w 45720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7820" y="8100"/>
                </a:lnTo>
                <a:lnTo>
                  <a:pt x="17820" y="5500"/>
                </a:lnTo>
                <a:lnTo>
                  <a:pt x="21600" y="10800"/>
                </a:lnTo>
                <a:lnTo>
                  <a:pt x="17820" y="16100"/>
                </a:lnTo>
                <a:lnTo>
                  <a:pt x="17820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3780" y="13500"/>
                </a:lnTo>
                <a:lnTo>
                  <a:pt x="3780" y="16100"/>
                </a:lnTo>
                <a:lnTo>
                  <a:pt x="0" y="10800"/>
                </a:lnTo>
                <a:lnTo>
                  <a:pt x="3780" y="5500"/>
                </a:lnTo>
                <a:lnTo>
                  <a:pt x="3780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Synthetic Components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0" y="2133720"/>
            <a:ext cx="2133720" cy="4190760"/>
          </a:xfrm>
          <a:prstGeom prst="ellipse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Industrial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6553080" y="2209680"/>
            <a:ext cx="2590920" cy="4191120"/>
          </a:xfrm>
          <a:prstGeom prst="ellipse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Military 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oncert of Europe” as conducted by Prince Metternich of Austr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ance has continuing troub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dustrializ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ise and fall of Great Pow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2" descr="http://www.anselm.edu/academic/history/hdubrulle/ModernEurope/graphics/Map-Europe-1812.gif"/>
          <p:cNvPicPr/>
          <p:nvPr/>
        </p:nvPicPr>
        <p:blipFill>
          <a:blip r:embed="rId2"/>
          <a:stretch/>
        </p:blipFill>
        <p:spPr>
          <a:xfrm>
            <a:off x="914400" y="1581120"/>
            <a:ext cx="7391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6" descr="europe_after_vienna_1815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http://www.made-in-england.org/images/Cartoon-Political-Map.jpg"/>
          <p:cNvPicPr/>
          <p:nvPr/>
        </p:nvPicPr>
        <p:blipFill>
          <a:blip r:embed="rId2"/>
          <a:stretch/>
        </p:blipFill>
        <p:spPr>
          <a:xfrm>
            <a:off x="609480" y="15238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2" descr="http://www.rightwords.eu/imgupl/author/t-600x600/otto-von-bismarck--103--t-600x600-rw.jpg"/>
          <p:cNvPicPr/>
          <p:nvPr/>
        </p:nvPicPr>
        <p:blipFill>
          <a:blip r:embed="rId2"/>
          <a:stretch/>
        </p:blipFill>
        <p:spPr>
          <a:xfrm rot="21392400">
            <a:off x="436320" y="2322000"/>
            <a:ext cx="2733480" cy="445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://28.media.tumblr.com/tumblr_l71tpdVEhg1qcfftgo1_500.jpg"/>
          <p:cNvPicPr/>
          <p:nvPr/>
        </p:nvPicPr>
        <p:blipFill>
          <a:blip r:embed="rId3"/>
          <a:stretch/>
        </p:blipFill>
        <p:spPr>
          <a:xfrm rot="1192200">
            <a:off x="3255480" y="2055960"/>
            <a:ext cx="2955960" cy="4074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scharch.org/Ray_Baer/Prtrt%20-Kaiser%20Wilhelm%20II.JPG"/>
          <p:cNvPicPr/>
          <p:nvPr/>
        </p:nvPicPr>
        <p:blipFill>
          <a:blip r:embed="rId4"/>
          <a:stretch/>
        </p:blipFill>
        <p:spPr>
          <a:xfrm rot="20775000">
            <a:off x="6175080" y="3028680"/>
            <a:ext cx="2581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WORLD HISTORY TEXT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d p 630-63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“Guide to Reading” on page 6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Big Ide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tent Vocabul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ademic Vocabul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ople &amp;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tto von Bismarck, Alsace, Lorrain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ding Strateg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HE MODERN ERA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d p. 330-33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“Note Taking” strategy on p. 3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erms, People,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“Note Taking strategy on p. 33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erms, People,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Logic of Power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 Walter Jon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eate a graphic organizer for the information contained in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prepared to discuss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Make your own notes on the </a:t>
            </a:r>
            <a:r>
              <a:rPr b="1" i="1" lang="en-US" sz="4000" spc="-1" strike="noStrike">
                <a:solidFill>
                  <a:srgbClr val="000000"/>
                </a:solidFill>
                <a:latin typeface="Corbe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  …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You are more likely to remember th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   …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They are importa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C:\Users\gregory.peters\AppData\Local\Microsoft\Windows\Temporary Internet Files\Content.IE5\AYR7WRNZ\MC900431631[1].png"/>
          <p:cNvPicPr/>
          <p:nvPr/>
        </p:nvPicPr>
        <p:blipFill>
          <a:blip r:embed="rId2"/>
          <a:stretch/>
        </p:blipFill>
        <p:spPr>
          <a:xfrm>
            <a:off x="380880" y="2057400"/>
            <a:ext cx="2171880" cy="2171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Users\gregory.peters\AppData\Local\Microsoft\Windows\Temporary Internet Files\Content.IE5\AYR7WRNZ\MC900318682[1].wmf"/>
          <p:cNvPicPr/>
          <p:nvPr/>
        </p:nvPicPr>
        <p:blipFill>
          <a:blip r:embed="rId3"/>
          <a:stretch/>
        </p:blipFill>
        <p:spPr>
          <a:xfrm>
            <a:off x="3124080" y="1828800"/>
            <a:ext cx="1825920" cy="1716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Users\gregory.peters\AppData\Local\Microsoft\Windows\Temporary Internet Files\Content.IE5\SR2VS45E\MP900399277[1].jpg"/>
          <p:cNvPicPr/>
          <p:nvPr/>
        </p:nvPicPr>
        <p:blipFill>
          <a:blip r:embed="rId4"/>
          <a:stretch/>
        </p:blipFill>
        <p:spPr>
          <a:xfrm>
            <a:off x="5867280" y="2057400"/>
            <a:ext cx="2332080" cy="1865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C:\Users\gregory.peters\AppData\Local\Microsoft\Windows\Temporary Internet Files\Content.IE5\3U2G16HH\MC900287131[1].wmf"/>
          <p:cNvPicPr/>
          <p:nvPr/>
        </p:nvPicPr>
        <p:blipFill>
          <a:blip r:embed="rId5"/>
          <a:stretch/>
        </p:blipFill>
        <p:spPr>
          <a:xfrm>
            <a:off x="2133720" y="4191120"/>
            <a:ext cx="1739880" cy="1927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C:\Users\gregory.peters\AppData\Local\Microsoft\Windows\Temporary Internet Files\Content.IE5\52B8KMO2\MC900078734[1].wmf"/>
          <p:cNvPicPr/>
          <p:nvPr/>
        </p:nvPicPr>
        <p:blipFill>
          <a:blip r:embed="rId6"/>
          <a:stretch/>
        </p:blipFill>
        <p:spPr>
          <a:xfrm>
            <a:off x="4952880" y="4114800"/>
            <a:ext cx="24480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ability of an actor on the international stage to use tangible and intangible resources and assets in such a way as to influence the outcomes of international events to its own satisfac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--OR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rbel"/>
              </a:rPr>
              <a:t>Using what you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have</a:t>
            </a:r>
            <a:r>
              <a:rPr b="0" lang="en-US" sz="3200" spc="-1" strike="noStrike">
                <a:solidFill>
                  <a:srgbClr val="002060"/>
                </a:solidFill>
                <a:latin typeface="Corbel"/>
              </a:rPr>
              <a:t> to get what you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3581280" y="3733920"/>
            <a:ext cx="1981440" cy="914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loud Callout 4"/>
          <p:cNvSpPr/>
          <p:nvPr/>
        </p:nvSpPr>
        <p:spPr>
          <a:xfrm>
            <a:off x="5562720" y="1828800"/>
            <a:ext cx="2971800" cy="2057400"/>
          </a:xfrm>
          <a:prstGeom prst="cloudCallout">
            <a:avLst>
              <a:gd name="adj1" fmla="val -52430"/>
              <a:gd name="adj2" fmla="val 50583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Means by which countries deal with one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loud Callout 5"/>
          <p:cNvSpPr/>
          <p:nvPr/>
        </p:nvSpPr>
        <p:spPr>
          <a:xfrm>
            <a:off x="762120" y="1981080"/>
            <a:ext cx="4419360" cy="1752840"/>
          </a:xfrm>
          <a:prstGeom prst="cloudCallout">
            <a:avLst>
              <a:gd name="adj1" fmla="val 17680"/>
              <a:gd name="adj2" fmla="val 54472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Unique to each country based on material and behavioural resources available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loud Callout 6"/>
          <p:cNvSpPr/>
          <p:nvPr/>
        </p:nvSpPr>
        <p:spPr>
          <a:xfrm>
            <a:off x="609480" y="4572000"/>
            <a:ext cx="3581640" cy="2057400"/>
          </a:xfrm>
          <a:prstGeom prst="cloudCallout">
            <a:avLst>
              <a:gd name="adj1" fmla="val 47671"/>
              <a:gd name="adj2" fmla="val -45180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A means of achieving influence over others who want the same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 Callout 7"/>
          <p:cNvSpPr/>
          <p:nvPr/>
        </p:nvSpPr>
        <p:spPr>
          <a:xfrm>
            <a:off x="4952880" y="4724280"/>
            <a:ext cx="4038840" cy="2133720"/>
          </a:xfrm>
          <a:prstGeom prst="cloudCallout">
            <a:avLst>
              <a:gd name="adj1" fmla="val -42027"/>
              <a:gd name="adj2" fmla="val -58314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When used rationally it improves or maintains a countries international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Left-Right-Up Arrow 3"/>
          <p:cNvSpPr/>
          <p:nvPr/>
        </p:nvSpPr>
        <p:spPr>
          <a:xfrm>
            <a:off x="3124080" y="3200400"/>
            <a:ext cx="2438640" cy="1371600"/>
          </a:xfrm>
          <a:custGeom>
            <a:avLst/>
            <a:gdLst>
              <a:gd name="textAreaLeft" fmla="*/ 171360 w 2438640"/>
              <a:gd name="textAreaRight" fmla="*/ 2267280 w 2438640"/>
              <a:gd name="textAreaTop" fmla="*/ 857160 h 1371600"/>
              <a:gd name="textAreaBottom" fmla="*/ 1200240 h 1371600"/>
            </a:gdLst>
            <a:ahLst/>
            <a:rect l="textAreaLeft" t="textAreaTop" r="textAreaRight" b="textAreaBottom"/>
            <a:pathLst>
              <a:path w="2438400" h="1371600">
                <a:moveTo>
                  <a:pt x="0" y="1028700"/>
                </a:moveTo>
                <a:lnTo>
                  <a:pt x="342900" y="685800"/>
                </a:lnTo>
                <a:lnTo>
                  <a:pt x="342900" y="857250"/>
                </a:lnTo>
                <a:lnTo>
                  <a:pt x="1047750" y="857250"/>
                </a:lnTo>
                <a:lnTo>
                  <a:pt x="1047750" y="342900"/>
                </a:lnTo>
                <a:lnTo>
                  <a:pt x="876300" y="342900"/>
                </a:lnTo>
                <a:lnTo>
                  <a:pt x="1219200" y="0"/>
                </a:lnTo>
                <a:lnTo>
                  <a:pt x="1562100" y="342900"/>
                </a:lnTo>
                <a:lnTo>
                  <a:pt x="1390650" y="342900"/>
                </a:lnTo>
                <a:lnTo>
                  <a:pt x="1390650" y="857250"/>
                </a:lnTo>
                <a:lnTo>
                  <a:pt x="2095500" y="857250"/>
                </a:lnTo>
                <a:lnTo>
                  <a:pt x="2095500" y="685800"/>
                </a:lnTo>
                <a:lnTo>
                  <a:pt x="2438400" y="1028700"/>
                </a:lnTo>
                <a:lnTo>
                  <a:pt x="2095500" y="1371600"/>
                </a:lnTo>
                <a:lnTo>
                  <a:pt x="2095500" y="1200150"/>
                </a:lnTo>
                <a:lnTo>
                  <a:pt x="342900" y="1200150"/>
                </a:lnTo>
                <a:lnTo>
                  <a:pt x="342900" y="1371600"/>
                </a:lnTo>
                <a:close/>
              </a:path>
            </a:pathLst>
          </a:custGeom>
          <a:solidFill>
            <a:srgbClr val="000000"/>
          </a:solidFill>
          <a:ln w="47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838080" y="1905120"/>
            <a:ext cx="7086600" cy="121896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Power i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lative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– not absolute in international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"/>
          <p:cNvSpPr/>
          <p:nvPr/>
        </p:nvSpPr>
        <p:spPr>
          <a:xfrm>
            <a:off x="380880" y="3276720"/>
            <a:ext cx="2667240" cy="1143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ymme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5638680" y="3200400"/>
            <a:ext cx="2286000" cy="13716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Asymme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4038480" y="4876920"/>
            <a:ext cx="4800600" cy="18288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Power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3800" y="5066640"/>
            <a:ext cx="1993680" cy="91584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txBody>
          <a:bodyPr lIns="54720" tIns="91440" anchor="ctr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Power Relationship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1" name="Straight Arrow Connector 10"/>
          <p:cNvCxnSpPr/>
          <p:nvPr/>
        </p:nvCxnSpPr>
        <p:spPr>
          <a:xfrm flipH="1">
            <a:off x="1675800" y="4495320"/>
            <a:ext cx="76680" cy="3056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2" name="Straight Arrow Connector 11"/>
          <p:cNvCxnSpPr/>
          <p:nvPr/>
        </p:nvCxnSpPr>
        <p:spPr>
          <a:xfrm flipH="1">
            <a:off x="6629400" y="4571640"/>
            <a:ext cx="76680" cy="3056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506520" y="-6480"/>
            <a:ext cx="8326440" cy="1268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Right Arrow 5"/>
          <p:cNvSpPr/>
          <p:nvPr/>
        </p:nvSpPr>
        <p:spPr>
          <a:xfrm>
            <a:off x="609480" y="3962520"/>
            <a:ext cx="7925040" cy="609480"/>
          </a:xfrm>
          <a:prstGeom prst="rightArrow">
            <a:avLst>
              <a:gd name="adj1" fmla="val 50000"/>
              <a:gd name="adj2" fmla="val 75429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ular Callout 8"/>
          <p:cNvSpPr/>
          <p:nvPr/>
        </p:nvSpPr>
        <p:spPr>
          <a:xfrm>
            <a:off x="533520" y="3048120"/>
            <a:ext cx="1752480" cy="609480"/>
          </a:xfrm>
          <a:prstGeom prst="wedgeRectCallout">
            <a:avLst>
              <a:gd name="adj1" fmla="val -21805"/>
              <a:gd name="adj2" fmla="val 120189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Asking Nic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ular Callout 9"/>
          <p:cNvSpPr/>
          <p:nvPr/>
        </p:nvSpPr>
        <p:spPr>
          <a:xfrm>
            <a:off x="1219320" y="4800600"/>
            <a:ext cx="2057400" cy="1295280"/>
          </a:xfrm>
          <a:prstGeom prst="wedgeRectCallout">
            <a:avLst>
              <a:gd name="adj1" fmla="val -17412"/>
              <a:gd name="adj2" fmla="val -78675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ular Callout 10"/>
          <p:cNvSpPr/>
          <p:nvPr/>
        </p:nvSpPr>
        <p:spPr>
          <a:xfrm>
            <a:off x="2666880" y="2590920"/>
            <a:ext cx="1828800" cy="1218960"/>
          </a:xfrm>
          <a:prstGeom prst="wedgeRectCallout">
            <a:avLst>
              <a:gd name="adj1" fmla="val -23138"/>
              <a:gd name="adj2" fmla="val 82115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ular Callout 11"/>
          <p:cNvSpPr/>
          <p:nvPr/>
        </p:nvSpPr>
        <p:spPr>
          <a:xfrm>
            <a:off x="3809880" y="4876920"/>
            <a:ext cx="1676520" cy="1295280"/>
          </a:xfrm>
          <a:prstGeom prst="wedgeRectCallout">
            <a:avLst>
              <a:gd name="adj1" fmla="val -18314"/>
              <a:gd name="adj2" fmla="val -89736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Diplomatic Sa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ular Callout 12"/>
          <p:cNvSpPr/>
          <p:nvPr/>
        </p:nvSpPr>
        <p:spPr>
          <a:xfrm>
            <a:off x="5181480" y="2286000"/>
            <a:ext cx="1828800" cy="1371600"/>
          </a:xfrm>
          <a:prstGeom prst="wedgeRectCallout">
            <a:avLst>
              <a:gd name="adj1" fmla="val -32370"/>
              <a:gd name="adj2" fmla="val 85064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reaten Use of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ular Callout 13"/>
          <p:cNvSpPr/>
          <p:nvPr/>
        </p:nvSpPr>
        <p:spPr>
          <a:xfrm>
            <a:off x="6248520" y="4800600"/>
            <a:ext cx="1676160" cy="1371600"/>
          </a:xfrm>
          <a:prstGeom prst="wedgeRectCallout">
            <a:avLst>
              <a:gd name="adj1" fmla="val -24694"/>
              <a:gd name="adj2" fmla="val -75587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Use of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Left-Right-Up Arrow 3"/>
          <p:cNvSpPr/>
          <p:nvPr/>
        </p:nvSpPr>
        <p:spPr>
          <a:xfrm>
            <a:off x="2971800" y="4114800"/>
            <a:ext cx="2666880" cy="2133720"/>
          </a:xfrm>
          <a:custGeom>
            <a:avLst/>
            <a:gdLst>
              <a:gd name="textAreaLeft" fmla="*/ 266400 w 2666880"/>
              <a:gd name="textAreaRight" fmla="*/ 2400480 w 2666880"/>
              <a:gd name="textAreaTop" fmla="*/ 1333440 h 2133720"/>
              <a:gd name="textAreaBottom" fmla="*/ 1867320 h 2133720"/>
            </a:gdLst>
            <a:ahLst/>
            <a:rect l="textAreaLeft" t="textAreaTop" r="textAreaRight" b="textAreaBottom"/>
            <a:pathLst>
              <a:path w="2667000" h="2133600">
                <a:moveTo>
                  <a:pt x="0" y="1600200"/>
                </a:moveTo>
                <a:lnTo>
                  <a:pt x="533400" y="1066800"/>
                </a:lnTo>
                <a:lnTo>
                  <a:pt x="533400" y="1333500"/>
                </a:lnTo>
                <a:lnTo>
                  <a:pt x="1066800" y="1333500"/>
                </a:lnTo>
                <a:lnTo>
                  <a:pt x="1066800" y="533400"/>
                </a:lnTo>
                <a:lnTo>
                  <a:pt x="800100" y="533400"/>
                </a:lnTo>
                <a:lnTo>
                  <a:pt x="1333500" y="0"/>
                </a:lnTo>
                <a:lnTo>
                  <a:pt x="1866900" y="533400"/>
                </a:lnTo>
                <a:lnTo>
                  <a:pt x="1600200" y="533400"/>
                </a:lnTo>
                <a:lnTo>
                  <a:pt x="1600200" y="1333500"/>
                </a:lnTo>
                <a:lnTo>
                  <a:pt x="2133600" y="1333500"/>
                </a:lnTo>
                <a:lnTo>
                  <a:pt x="2133600" y="1066800"/>
                </a:lnTo>
                <a:lnTo>
                  <a:pt x="2667000" y="1600200"/>
                </a:lnTo>
                <a:lnTo>
                  <a:pt x="2133600" y="2133600"/>
                </a:lnTo>
                <a:lnTo>
                  <a:pt x="2133600" y="1866900"/>
                </a:lnTo>
                <a:lnTo>
                  <a:pt x="533400" y="1866900"/>
                </a:lnTo>
                <a:lnTo>
                  <a:pt x="533400" y="2133600"/>
                </a:lnTo>
                <a:close/>
              </a:path>
            </a:pathLst>
          </a:custGeom>
          <a:solidFill>
            <a:srgbClr val="000000"/>
          </a:solidFill>
          <a:ln w="47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1371600" y="2057400"/>
            <a:ext cx="5638680" cy="19810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Natural Sources of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609480" y="4114800"/>
            <a:ext cx="2210040" cy="20574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cial &amp; Psychological Components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5715000" y="4038480"/>
            <a:ext cx="2438280" cy="22860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Synthetic Components of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6:52:40Z</dcterms:created>
  <dc:creator>ED18</dc:creator>
  <dc:description/>
  <dc:language>en-US</dc:language>
  <cp:lastModifiedBy>Greg Peters</cp:lastModifiedBy>
  <dcterms:modified xsi:type="dcterms:W3CDTF">2014-03-28T11:13:53Z</dcterms:modified>
  <cp:revision>24</cp:revision>
  <dc:subject/>
  <dc:title>The Logic of Power</dc:title>
</cp:coreProperties>
</file>